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applause.wav" ContentType="audio/x-wav"/>
  <Override PartName="/ppt/media/image2.png" ContentType="image/png"/>
  <Override PartName="/ppt/media/image3.png" ContentType="image/pn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8EB6-8826-4137-A882-F13F1D4C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715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B3EC-4DF8-47CB-B539-AE3663FC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34CF-4B7E-45A9-B461-EB3F0894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E284-4811-4C26-9A5B-DABEC9316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5610-4B3C-4CB2-B852-5F25E6D4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8804-108F-41A3-A417-CE5475AA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848D-AED6-4B41-9F2A-AEA47A1B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54B2-9CA8-43C2-9108-262FBB3B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AD12-406D-40EA-86D6-AB9D5F76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5307-B172-46C2-96CA-733B6240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005E-58E9-4989-AA7B-6E3875E4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4A76-DB1A-404B-A72A-F111A63A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476C-2596-4A35-9646-155535BE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715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3416-35D5-4A98-9DFC-243D6A5B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39715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90ED-6CDC-43F0-87A5-696DA19C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4D1B-D345-4C50-BAEF-2120D2DD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42A0-D967-46EE-BFED-1B300D5D6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6E7C-66AA-48D0-AECC-49C487AF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AF27-4581-4766-A73F-1F17A353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C7D1-5DA9-4372-B8BD-C9158B33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8508-D726-4EF1-AE1D-9CE2762B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4BDA-0B4D-40CF-953A-321C3485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8A30-4E84-405C-8D27-D7056BEB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715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6520-1B25-4053-AE70-A959D57D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5943240"/>
            <a:ext cx="1905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5943240"/>
            <a:ext cx="2895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5943240"/>
            <a:ext cx="1905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A8F7-6C7C-401D-B558-5C2E027A83BD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019560"/>
            <a:ext cx="19051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019560"/>
            <a:ext cx="19051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EBEA-C206-41EC-B250-9D9710BE6B85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microsoft.com/net" TargetMode="External"/><Relationship Id="rId2" Type="http://schemas.openxmlformats.org/officeDocument/2006/relationships/hyperlink" Target="http://www.microsoft.com/net" TargetMode="External"/><Relationship Id="rId3" Type="http://schemas.openxmlformats.org/officeDocument/2006/relationships/hyperlink" Target="http://www.microsoft.com/net" TargetMode="External"/><Relationship Id="rId4" Type="http://schemas.openxmlformats.org/officeDocument/2006/relationships/hyperlink" Target="http://www.microsoft.com/brasil/net" TargetMode="External"/><Relationship Id="rId5" Type="http://schemas.openxmlformats.org/officeDocument/2006/relationships/hyperlink" Target="http://www.microsoft.com/brasil/net" TargetMode="External"/><Relationship Id="rId6" Type="http://schemas.openxmlformats.org/officeDocument/2006/relationships/hyperlink" Target="http://www.microsoft.com/brasil/net" TargetMode="External"/><Relationship Id="rId7" Type="http://schemas.openxmlformats.org/officeDocument/2006/relationships/hyperlink" Target="http://www.microsoft.com/brasil/net" TargetMode="External"/><Relationship Id="rId8" Type="http://schemas.openxmlformats.org/officeDocument/2006/relationships/hyperlink" Target="http://www.microsoft.com/brasil/net" TargetMode="Externa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9520"/>
            <a:ext cx="8458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A Inovadora Plataforma da Microsof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bill_gates1" descr=""/>
          <p:cNvPicPr/>
          <p:nvPr/>
        </p:nvPicPr>
        <p:blipFill>
          <a:blip r:embed="rId1"/>
          <a:stretch/>
        </p:blipFill>
        <p:spPr>
          <a:xfrm>
            <a:off x="8153280" y="3352680"/>
            <a:ext cx="85752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28600" y="243828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Ambiente de Desenvolvimento .N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2480" y="4952880"/>
            <a:ext cx="32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lberto Cáceres Alvare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Néstor Daniel Heredia Vi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Rodrigo Guimarães de Araúj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82280" y="6248520"/>
            <a:ext cx="42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ngenharia  de Software – UFMS 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Linguagens .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A atual ferramenta de programação .NET é o Visual Studio .NET. O produto incorpora as linguagens Visual Basic, Visual C++ e Visual C#, todas com sobrenome .NET. As linguagens tradicionais  sofreram ajustes para a plataforma .NET, enquanto o C# começa do zer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228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7fa58"/>
                </a:solidFill>
                <a:latin typeface="Times New Roman"/>
              </a:rPr>
              <a:t>.NET Visto Pelo Program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0982-ACEF-40F2-A52C-A17EDEFBA358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Ambiente CL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O .NET é baseado em um ambiente CLR(Common Language RunTime) que gerencia a execução de código escrito em qualquer linguagem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O CLR gera o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managed code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, ou seja, código escrito para rodar com o runtime do VS.NET. No VS.NET, somente o C++ produz programas que não dependem do runtime, o chamado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unmanaged cod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228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7fa58"/>
                </a:solidFill>
                <a:latin typeface="Times New Roman"/>
              </a:rPr>
              <a:t>.NET Visto Pelo Program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25D9-74DF-4151-8E4F-8B2E9F0C1D10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Compilação .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3504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A compilação do código .NET consiste em um  processo de duas etapa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228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7fa58"/>
                </a:solidFill>
                <a:latin typeface="Times New Roman"/>
              </a:rPr>
              <a:t>.NET Visto Pelo Program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3797-B89D-4903-AC00-69D62437EDFF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Compilação .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1. O código de nível superior é convertido em uma linguagem genérica chamada de MSIL(Microsoft Intermediate Language), semelhante ao código da máquina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228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7fa58"/>
                </a:solidFill>
                <a:latin typeface="Times New Roman"/>
              </a:rPr>
              <a:t>.NET Visto Pelo Program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8CDA-4E91-4788-981B-488B12129978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Compilação .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2. Durante o tempo de execução, na primeira chamada para o código MSIL, o CLR .NET converte o MSIL em um código nativo e o executa como tal. Uma vez convertido, o código nativo é usado até que o programa termin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228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7fa58"/>
                </a:solidFill>
                <a:latin typeface="Times New Roman"/>
              </a:rPr>
              <a:t>.NET Visto Pelo Program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7B72-0A43-4CA5-A262-32465A9107AC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Compilação .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809880"/>
            <a:ext cx="1981080" cy="131364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ódigo – Fon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Visual Basic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Visual C++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obol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4495680"/>
            <a:ext cx="121932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2819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Ferramenta de Desenvolvimento, como o Visual Studio .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3809880"/>
            <a:ext cx="1981080" cy="131364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Microsoft Intermediate Language (MSI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62720" y="4495680"/>
            <a:ext cx="121896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3809880"/>
            <a:ext cx="1981440" cy="131364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ódigo específico para a platafo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1120" y="304812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Compilador Just-In-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228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7fa58"/>
                </a:solidFill>
                <a:latin typeface="Times New Roman"/>
              </a:rPr>
              <a:t>.NET Visto Pelo Program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E589-E9A1-460C-A1F9-C2BEB4C281B1}" type="slidenum">
              <a:t>15</a:t>
            </a:fld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.NET Framewor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É o modelo da plataforma .NET para construir, instalar e rodar qualquer aplicação, no desktop ou na internet. Para executar um programa .NET é preciso ter o framework instalado; caso seja uma aplicação web o framework fica instalado no servido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228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7fa58"/>
                </a:solidFill>
                <a:latin typeface="Times New Roman"/>
              </a:rPr>
              <a:t>.NET Visto Pelo Program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E64E-33D5-4C75-86B7-071B53380EEF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.NET Framewor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Propicia gerenciamento de memória automático via coleta de lixo (garbage collection)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uporta gerenciamento de versões padronizado e explícito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stende a riqueza de recursos da programação orientada a objetos para todas as linguagens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952880" y="228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7fa58"/>
                </a:solidFill>
                <a:latin typeface="Times New Roman"/>
              </a:rPr>
              <a:t>.NET Visto Pelo Program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601B-6D35-4ED3-9FCF-46C5F46CDEE5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.NET Framewor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Organiza a funcionalidade do sistema em um espaço de nomes hierárqui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uporta proteção de códig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Propicia interação transparente com o COM, seja cliente ou servido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228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7fa58"/>
                </a:solidFill>
                <a:latin typeface="Times New Roman"/>
              </a:rPr>
              <a:t>.NET Visto Pelo Program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6CC8-7BC1-4FEE-8E20-F89D23FDF49B}" type="slidenum">
              <a:t>18</a:t>
            </a:fld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Web Servic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50760" bIns="5076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Microsoft .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A iniciativa .NET é a visão da Microsoft de um mundo, onde o software se transforma em serviços, na verdade pequenos componentes que podem ser usados por qualquer aplicação.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Developers’ Magazi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452C-48EB-4E63-BC77-DA4DB17C8884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Web Servic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Pode-se entender web service como uma porção de código ou função localizada num servidor web e que pode ser utilizada por uma aplicação qualquer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9B1C-0929-465C-B041-C7E3CA4451F6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Web Servic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Os Web services têm por objetivo automatizar operações de Internet que normalmente são realizadas por seres humano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Uma das características centrais dos web services é serem baseados em padrões aberto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C19D-405E-4E22-97E3-0009289B83C0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Padrões .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676520" y="3809520"/>
            <a:ext cx="64008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Linguagem e Protoco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781680" y="4546440"/>
          <a:ext cx="2362320" cy="23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4546440"/>
                    <a:ext cx="2362320" cy="23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Linguagem XM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00600" y="228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7fa58"/>
                </a:solidFill>
                <a:latin typeface="Times New Roman"/>
              </a:rPr>
              <a:t>Padrões .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057400"/>
            <a:ext cx="6873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É o grande habilitador do modelo de Web services, uma linguagem extensível de descrição de informaçõ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Dados expressos com XML são facilmente entendidos e manipulados por computadores, linguagens e dispositivos das mais variadas origens, criando uma facilidade sem precedentes na troca de informações entre empresas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7195-4F3B-4531-AB93-E21D52BA705C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Protocolo SOAP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rotocolo simples de acesso a objetos. O SOAP é um padrão aberto, baseado em XML, criado por Microsoft, Ariba e IBM para padronizar a transferência de dados entre aplicações.  Pode ser usado em combinação com vários outros protocolos comuns da internet, como HTTP e SMTP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28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7fa58"/>
                </a:solidFill>
                <a:latin typeface="Times New Roman"/>
              </a:rPr>
              <a:t>Padrões .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EB71-A816-446B-BE9F-C6FD9AE880B5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Protocolo UDD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razendo a facilidade do modelo Web para o mundo das transações entre sistemas, o protocolo permite que ambientes de desenvolvimento e processamento compatíveis com Web Services descubram fornecedores de dados e serviços usando um mecanismo muito similar ao dos engenheiros de busca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00600" y="228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7fa58"/>
                </a:solidFill>
                <a:latin typeface="Times New Roman"/>
              </a:rPr>
              <a:t>Padrões .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2103-2482-47A5-949C-816358A04539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Exemplo de Web serv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nsidere uma empresa que deseja cadastrar um novo cliente para efetuar uma venda. Depois de finalizar o cadastro, o departamento financeiro por meio de uma outra aplicação específica ou mesmo do telefone, consulta um serviço de crédito para determinar se o cliente possui bons antecedentes. Não seria mais fácil se a própria aplicação de cadastro de clientes fizesse a consulta automaticamente ao serviço de crédito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A8AD-B5BF-4DF5-89A0-40F44B96CB5C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Adicionai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bcbcb"/>
                </a:solidFill>
                <a:latin typeface="Arial"/>
              </a:rPr>
              <a:t>Modelo Peer-to-peer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É um modelo de comunicação no qual os meios utilizados - desktops, servidores e outros dispositivos inteligentes - comunicam-se diretamente uns com os outros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12C6-C23D-4388-9BCE-640F64BDA714}" type="slidenum">
              <a:t>27</a:t>
            </a:fld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Bibliograf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Platt, David S. , Introducing Microsoft . 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.NET Magaz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Developers’Magaz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www.</a:t>
            </a:r>
            <a:r>
              <a:rPr b="1" lang="pt-BR" sz="32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microsoft</a:t>
            </a:r>
            <a:r>
              <a:rPr b="1" lang="pt-BR" sz="3200" spc="-1" strike="noStrike" u="sng">
                <a:solidFill>
                  <a:srgbClr val="ff3300"/>
                </a:solidFill>
                <a:uFillTx/>
                <a:latin typeface="Arial"/>
                <a:hlinkClick r:id="rId3"/>
              </a:rPr>
              <a:t>.com/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ff3300"/>
                </a:solidFill>
                <a:uFillTx/>
                <a:latin typeface="Arial"/>
                <a:hlinkClick r:id="rId4"/>
              </a:rPr>
              <a:t>www.</a:t>
            </a:r>
            <a:r>
              <a:rPr b="1" lang="pt-BR" sz="3200" spc="-1" strike="noStrike" u="sng">
                <a:solidFill>
                  <a:srgbClr val="ff3300"/>
                </a:solidFill>
                <a:uFillTx/>
                <a:latin typeface="Arial"/>
                <a:hlinkClick r:id="rId5"/>
              </a:rPr>
              <a:t>microsoft</a:t>
            </a:r>
            <a:r>
              <a:rPr b="1" lang="pt-BR" sz="3200" spc="-1" strike="noStrike" u="sng">
                <a:solidFill>
                  <a:srgbClr val="ff3300"/>
                </a:solidFill>
                <a:uFillTx/>
                <a:latin typeface="Arial"/>
                <a:hlinkClick r:id="rId6"/>
              </a:rPr>
              <a:t>.com/</a:t>
            </a:r>
            <a:r>
              <a:rPr b="1" lang="pt-BR" sz="3200" spc="-1" strike="noStrike" u="sng">
                <a:solidFill>
                  <a:srgbClr val="ff3300"/>
                </a:solidFill>
                <a:uFillTx/>
                <a:latin typeface="Arial"/>
                <a:hlinkClick r:id="rId7"/>
              </a:rPr>
              <a:t>brasil</a:t>
            </a:r>
            <a:r>
              <a:rPr b="1" lang="pt-BR" sz="3200" spc="-1" strike="noStrike" u="sng">
                <a:solidFill>
                  <a:srgbClr val="ff3300"/>
                </a:solidFill>
                <a:uFillTx/>
                <a:latin typeface="Arial"/>
                <a:hlinkClick r:id="rId8"/>
              </a:rPr>
              <a:t>/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4FCD-4F98-464E-A38D-4CA382E2FA81}" type="slidenum">
              <a:t>28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Objetivo .NET Segundo Microsof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a nova plataforma .NET a Internet deixará de ser um emaranhado de sites isolados. Ela será um grande conjunto de sistemas interagindo e trabalhando a favor do usuário. De telefones celulares a controles de automóveis, todos os dispositivos irão compartilhar uma plataforma única. Estamos nos aproximando da era de uma rede global integrada. Estamos entrando na era .NET.</a:t>
            </a: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3B77-52BD-46ED-84EF-99CC8228386D}" type="slidenum">
              <a:t>3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Exemplo de Uso de .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No caso de um atraso no seu vôo, você pode ser avisado pelo rádio do seu carro, caso esteja no trânsito; se estiver em casa, o aviso chega pela TV interativa ou pelo seu computador no trabalho; e se estiver passeando no shopping, o celular comunicará sobre o atraso. A plataforma .NET chega para tornar realidade aplicações como essa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C77B-A15A-43E0-91FF-D4826143F2AD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Desafios da Plataforma .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1. Atender às novas demandas e aproveitar as oportunidades que o contínuo avanço da tecnologia, e o incrível aumento das opções de conectividade ao longo da última década trouxeram, sem deixar de lado as atribuições tradicionais de 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6B46-4F85-432A-AAC8-F0E4FB77007D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Desafios da Plataforma .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2. Fazer com que a etapa de integração entre sistemas ou sites de Internet deixe de ser uma fase acessória e passe a ser uma etapa íntegra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3.Desenvolver um sistema de três camadas funcional, ou seja, tornar os modelos de objetos e mensagens compatíveis entre si (base da comunicação entre as camadas dos sistemas)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E160-9513-48FC-A27B-A3EB6A747D9A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Sistema de Três Camada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2133720"/>
            <a:ext cx="515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lientes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- são os PCs, laptops, workstations, telefones celulares, handheld computers, Tablet PCs, games e outros dispositivos inteligentes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3429000"/>
            <a:ext cx="50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Arial"/>
              </a:rPr>
              <a:t>Web Services – regras de negócio e transaçõ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Arial"/>
              </a:rPr>
              <a:t>(são componentes individuais que têm um URL) e uma interface em XM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4800600"/>
            <a:ext cx="5333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Servidores -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formam a infra-estrutura Microsoft .NET para disseminar, gerenciar e orquestrar serviços XML. oferecem às empresas a agilidade que elas precisam para integrar seus sistemas, aplicações e parceiros através de serviços XML, e a flexibilidade de adaptar-se às mudanças exigidas pelo mercad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52880" y="228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7fa58"/>
                </a:solidFill>
                <a:latin typeface="Times New Roman"/>
              </a:rPr>
              <a:t>Desafios da Plataforma .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3camadas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316080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E2E8-BDF2-4CD8-BB84-5CA198030D15}" type="slidenum">
              <a:t>7</a:t>
            </a:fld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.NET Visto Pelo Programado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276720" y="2514600"/>
          <a:ext cx="3047760" cy="29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514600"/>
                    <a:ext cx="3047760" cy="29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Visual Studio .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15" name="Formulário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5EA6-9BA8-4B99-9922-74908D498278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éstor Daniel</cp:lastModifiedBy>
  <dcterms:modified xsi:type="dcterms:W3CDTF">2002-06-20T04:16:45Z</dcterms:modified>
  <cp:revision>31</cp:revision>
  <dc:subject/>
  <dc:title>Apresentação do PowerPoint</dc:title>
</cp:coreProperties>
</file>